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A78-05F7-48B4-A831-D1BA4308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0DC-4B22-46E3-9EB1-59D3015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7C4-8C03-4426-B47C-4119A245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E37-DDA7-4215-BCCF-745F7D09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C62-48DA-4F17-B1E8-59D2D70C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AC5-A650-4021-8AAF-414A00C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78D-A55D-49E8-B6F4-9F0AFF8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3BE-1C83-478E-951D-5BB0221E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6A8-95C3-47EB-AFFE-8FFFFE2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2F8-FB8E-4225-B1DA-7EC9B74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2D0-0C9A-477D-9711-B3DE9A8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A58-B16C-4B00-AB6F-1162F01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7A4B-E36A-452B-8479-FE988A82D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630440"/>
            <a:ext cx="711540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сусе, Спасител,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кой е подобен на Теб?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секи ден всичко във мен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ще хвали чудесата Ти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92240" y="1197000"/>
            <a:ext cx="6958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Утеха, закрила, 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илна опора Си Ти.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 всеки мой дъх, о, Господи,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ще славя Твоята любов.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39640" y="846000"/>
            <a:ext cx="6870960" cy="416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да пее земята хвала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слава и почит на Бога Отц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хълмове падат, морета буча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пред звука на името Ти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08080" y="549360"/>
            <a:ext cx="854064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ея със радост за Твойте дела,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щастлив съм да Ти подаря любовта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яма подобен на Теб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 този свят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1630440"/>
            <a:ext cx="711540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сусе, Спасител,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кой е подобен на Теб?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секи ден всичко във мен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ffffff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ще хвали чудесата Ти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ffffff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092240" y="1197000"/>
            <a:ext cx="6958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Утеха, закрила, 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илна опора Си Ти.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 всеки мой дъх, о, Господи,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ще славя Твоята любов.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9640" y="846000"/>
            <a:ext cx="6870960" cy="416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да пее земята хвала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слава и почит на Бога Отц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хълмове падат, морета буча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пред звука на името Ти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08080" y="549360"/>
            <a:ext cx="854064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ея със радост за Твойте дела,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щастлив съм да Ти подаря любовта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яма подобен на Теб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 този свят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2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54:15Z</dcterms:created>
  <dc:creator>TrifonTrifonow</dc:creator>
  <dc:description/>
  <dc:language>en-US</dc:language>
  <cp:lastModifiedBy>TrifonTrifonow</cp:lastModifiedBy>
  <dcterms:modified xsi:type="dcterms:W3CDTF">2005-12-15T20:54:37Z</dcterms:modified>
  <cp:revision>1</cp:revision>
  <dc:subject/>
  <dc:title>Slide 1</dc:title>
</cp:coreProperties>
</file>